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78E-0319-4583-933A-0BCBB28D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09C-9759-4851-85B2-DAD50D88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3A8-F53E-4FA0-8CE6-38F6F166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142-BB5A-429E-8E4F-CFA25AE3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3A46-529E-4480-81E4-DDF80784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51B0-CD96-46B3-B563-FBD3B8C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BC7D-5C39-43ED-A1C4-F7050787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CCBF-DE0A-4903-9A75-BDE4326B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4AF2-5EAE-4366-AF8E-8D474A47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BB10-5B48-4F67-96B4-68DB0C63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9D74-3396-4326-AA36-9F012A16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D86-F90A-4766-920B-8B289F71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7649-DA83-4D38-970E-AB55B75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3602-AE05-4477-9CDA-E6CC7C8C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5BD6-29C4-4F74-A60B-B36714FD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2D90-29F2-441C-90CE-D00091FE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27C3-080B-4E9C-B95D-EEABADCA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AD9-7C12-437A-B6EC-CD8E5419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E06-B2A7-4EB6-A2DA-47581DB3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DA7-92C2-4368-9F58-8DC6ED11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9C8-6547-4123-AEE3-745F171B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C93-6759-4B90-9A3B-637E8CE3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A63-C67E-4C02-BBF1-51820F1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455-7293-4D28-80E5-35927DE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8959-BEC6-4ECE-9FE1-DCA3550B739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DF8D-24C2-4505-A1CE-988223557E6E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&lt;&lt;Title Here&gt;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omputer Services</cp:lastModifiedBy>
  <dcterms:modified xsi:type="dcterms:W3CDTF">2009-07-16T17:48:13Z</dcterms:modified>
  <cp:revision>92</cp:revision>
  <dc:subject/>
  <dc:title>Slide 1</dc:title>
</cp:coreProperties>
</file>